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5DDD-48CC-4CA6-AEB9-3683EBF2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1225-7C42-4E01-AF65-70F18449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A4E-2E15-4EBC-B3D9-B9046D43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4CB-6045-4891-9883-497E0B07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C18-4491-47D6-9CA5-3D63F646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05A0-9208-457B-93D4-2109FDF2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D96-13C2-4A80-BA08-4172CA05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54C3-EC0D-402F-A9CF-953DBD5B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102F-3E1F-4ABC-89EE-372CB026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75A6-9586-449E-85A4-ACB89489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EE76-AD85-4F6C-AE12-C68C414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6F6-24B6-40B1-A93B-AD3D58FC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61FE-7AF3-4501-9E50-B9B28EB5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9930-8137-4C2E-9DB6-FA7D2D3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E092-0E9F-4656-B0EE-94A5C9F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DD36C-B798-4796-9ABA-5088B780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E262-0A19-42F0-BF86-D07DBF1A0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CB1-7DFC-44AD-B7A6-115BA868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3D8-6EE1-4158-8A0E-849E81CB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906-D161-4F7E-8773-371BE4EC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9C8C-B4D5-433C-B346-8AF514EB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A63-A582-4FA3-9F1E-E65A1617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3872-F565-4875-A8F1-05E9B0CA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9A73-A62D-4D17-AD68-F6437D6C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80A5-BFE8-4835-8AD1-B33DD37042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9937-96C2-4A00-861B-62CE72AB49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280" y="1050840"/>
            <a:ext cx="80866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Times New Roman"/>
              </a:rPr>
              <a:t>Человек в старости обречён?!</a:t>
            </a:r>
            <a:br>
              <a:rPr sz="54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(По рассказу К.Г.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Паустовского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«Телеграмма»</a:t>
            </a:r>
            <a:br>
              <a:rPr sz="4000"/>
            </a:b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600360" cy="37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кое из этих определений использует Паустовский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трет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. Ожегов. Словарь русского язы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1. Изображение человека на картине, фотографии, в скульптур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2. перен. Художественное изображение, образ литературного геро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тре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.Власов. Художественный словар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Жанр изобразительного искус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трет.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Словарь литературоведческих термин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66ff33"/>
                </a:solidFill>
                <a:latin typeface="Times New Roman"/>
              </a:rPr>
              <a:t>В литературе чаще всего встречается психологический портрет, в котором автор через внешность героя раскрывает его внутренний мир, его характер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этот отрывок дополняет портрет Катерины Петровны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72160" y="1916280"/>
            <a:ext cx="859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Катерина Петровна осторожно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перебирала пухлые  бумажки . От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старости она забывала, что деньги эти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вовсе не те, какие были в руках у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сти, и ей казалось, что от денег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пахнет Настиными духами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fad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Как автор рисует оживление Катерины Петровны?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780000" y="1557360"/>
            <a:ext cx="536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терина Пет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беспокоила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, долго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бвязыв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у тёплым платком,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аде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арый салоп, впервые за этот г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ш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з дому. Шла она медленно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щупью…Позабыты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вёз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нзительно смотрели 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емл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Кто стучит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 за забором никто не ответи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- Должно быть, почудилос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казала Катерина Петровна 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брел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наз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485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ой отклик рождает пейзаж в душе Катерины Петровн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1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743280" cy="4565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56000" y="1773360"/>
            <a:ext cx="4608720" cy="435744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«Она задохнулась, остановилас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у старого дерева, взяла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рукой за холодную, мокрую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тку и узнала: это был клё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Его она посадила давно, ещ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евушкой-хохотушкой, 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ейчас он стоял облетевши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зябший, ему некуда бы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уйти от этой бесприютной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ветреной ночи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Track 12.mp3" descr=""/>
          <p:cNvPicPr/>
          <p:nvPr/>
        </p:nvPicPr>
        <p:blipFill>
          <a:blip r:embed="rId1"/>
          <a:stretch/>
        </p:blipFill>
        <p:spPr>
          <a:xfrm>
            <a:off x="8643960" y="6553080"/>
            <a:ext cx="195120" cy="195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237114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исьмо Катерины Петровны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Наст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1600200"/>
            <a:ext cx="3492360" cy="4492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635280" y="1599840"/>
            <a:ext cx="5329440" cy="453060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«Ненаглядная моя. Зиму эту я 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переживу . Приезжай хоть на д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Дай поглядеть на тебя, подерж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твои руки. Стара я стала и слаб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до того, что тяжело мне не то чт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ходить, а даже сидеть и лежать,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смерть забыла ко мне дорогу. Са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сохнет – совсем уж не тот,- да я е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и не вижу. Нынче осень плохая .Т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тяжело; вся жизнь, кажется, н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была такая длинная, как одна эт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осень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оанализируем письмо!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79280" y="765000"/>
            <a:ext cx="89647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акой тон главенству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 в </a:t>
            </a: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исьме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Нежность, холодность, отчаяние, раздражительность, печаль, тоска, сожаление, равнодушие)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79280" y="191628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2. С помощью каких звуков достигается плавность звучания в письме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Звонкие, глухие, шипящие, сонорные)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179280" y="2924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. С каких слов начинается письмо матери? Подберите другие синонимы – эпитеты. Почему у Паустовского именно «ненаглядная»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0" y="41497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. Прочитайте: </a:t>
            </a:r>
            <a:r>
              <a:rPr b="1" lang="ru-RU" sz="2400" spc="-1" strike="noStrike">
                <a:solidFill>
                  <a:srgbClr val="66ff33"/>
                </a:solidFill>
                <a:latin typeface="Palatino Linotype"/>
              </a:rPr>
              <a:t>«Манюшка, шмыгая носом, отнесла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Palatino Linotype"/>
              </a:rPr>
              <a:t>это письмо на почту, долго засовывала его в почтовый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Palatino Linotype"/>
              </a:rPr>
              <a:t>ящик и заглядывала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ff33"/>
                </a:solidFill>
                <a:latin typeface="Palatino Linotype"/>
              </a:rPr>
              <a:t>внутрь, - что там? Но внутри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Palatino Linotype"/>
              </a:rPr>
              <a:t>ничего не было видно – одна жестяная пустота».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акая деталь подсказывает нам, что ответа на письмо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не будет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Как называется это средство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выразительности?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оч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608720" cy="266400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5f03"/>
                </a:solidFill>
                <a:latin typeface="Times New Roman"/>
              </a:rPr>
              <a:t>Нарисуйте словесны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5f03"/>
                </a:solidFill>
                <a:latin typeface="Times New Roman"/>
              </a:rPr>
              <a:t>портрет На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b5f03"/>
                </a:solidFill>
                <a:latin typeface="Times New Roman"/>
              </a:rPr>
              <a:t>Чем занимается Настя</a:t>
            </a:r>
            <a:r>
              <a:rPr b="0" lang="ru-RU" sz="3200" spc="-1" strike="noStrike">
                <a:solidFill>
                  <a:srgbClr val="bb5f03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4932360" y="1484280"/>
            <a:ext cx="381636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Художники звали её Сольвейг «за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русые волосы и большие холодные глаза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2565360"/>
            <a:ext cx="4464000" cy="273528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</a:rPr>
              <a:t>Сольвейг – в переводе «солнечный путь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лаза – зеркало человеческой д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79280" y="260280"/>
          <a:ext cx="8713800" cy="5954760"/>
        </p:xfrm>
        <a:graphic>
          <a:graphicData uri="http://schemas.openxmlformats.org/drawingml/2006/table">
            <a:tbl>
              <a:tblPr/>
              <a:tblGrid>
                <a:gridCol w="4608720"/>
                <a:gridCol w="4105080"/>
              </a:tblGrid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Дом матер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Мастерская Тимофеев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6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Нетопленые печи, горький запах, пыл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1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Холод, чад, дымящаяся печ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1b0"/>
                    </a:solidFill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ec94"/>
                    </a:solidFill>
                  </a:tcPr>
                </a:tc>
              </a:tr>
            </a:tbl>
          </a:graphicData>
        </a:graphic>
      </p:graphicFrame>
      <p:sp>
        <p:nvSpPr>
          <p:cNvPr id="183" name="Line 25"/>
          <p:cNvSpPr/>
          <p:nvPr/>
        </p:nvSpPr>
        <p:spPr>
          <a:xfrm flipV="1">
            <a:off x="468360" y="5013360"/>
            <a:ext cx="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5056200" y="568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417760" y="537372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3300"/>
                </a:solidFill>
                <a:latin typeface="Palatino Linotype"/>
              </a:rPr>
              <a:t>ПАРАЛЛЕЛИЗМ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179280" y="2924280"/>
            <a:ext cx="453708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Palatino Linotype"/>
              </a:rPr>
              <a:t>Больная, старая,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eec94"/>
                </a:solidFill>
                <a:latin typeface="Palatino Linotype"/>
              </a:rPr>
              <a:t>есприютная</a:t>
            </a: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Palatino Linotype"/>
              </a:rPr>
              <a:t>женщина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Text Box 37"/>
          <p:cNvSpPr/>
          <p:nvPr/>
        </p:nvSpPr>
        <p:spPr>
          <a:xfrm>
            <a:off x="4859280" y="292428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eec94"/>
                </a:solidFill>
                <a:latin typeface="Palatino Linotype"/>
              </a:rPr>
              <a:t>Молодой человек, полный сил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6408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ж давно ничег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моей жизни  не происходит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нчается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ен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саока Сик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3068640"/>
            <a:ext cx="7632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рость не может быть счастьем. Старость может быть лишь покоем или бедой. Покоем она становится лишь тогда, когда её уважают. Бедой её делают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бвени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диночеств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. А. Сухом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очему Настя почувствовала на себе взгляд именно Гоголя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4076280"/>
            <a:ext cx="7848360" cy="252108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Настя вздрогнула. Насмешливо, зная её насквоз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смотрел на неё остроносый  сутулый человек. Наст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видела, как на его виске бьётся тонкая склеротиче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жил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«А письмо –то в сумочке нераспечатанное,- казалос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говорили сверлящие глаза.- Эх ты, сорока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2232360" cy="2376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1116000" y="1484280"/>
            <a:ext cx="208764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427280" y="1267920"/>
            <a:ext cx="4392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«Что ж это, мама? Что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Мама, как же это могл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случиться? Ведь никог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же у меня в жизни нет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Нет и не будет родне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Лишь бы </a:t>
            </a:r>
            <a:r>
              <a:rPr b="1" i="1" lang="ru-RU" sz="2800" spc="-1" strike="noStrike">
                <a:solidFill>
                  <a:srgbClr val="fef1b0"/>
                </a:solidFill>
                <a:latin typeface="Times New Roman"/>
              </a:rPr>
              <a:t>успеть</a:t>
            </a: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, лиш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бы она увидела меня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лишь бы простила»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0" y="907920"/>
            <a:ext cx="4356000" cy="4826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ятая заповедь Божь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6120" y="2176200"/>
            <a:ext cx="4038480" cy="348444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Franklin Gothic Medium"/>
              </a:rPr>
              <a:t>« Чти отца своег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Franklin Gothic Medium"/>
              </a:rPr>
              <a:t>и матерь твою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Franklin Gothic Medium"/>
              </a:rPr>
              <a:t>да благо ти будет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Franklin Gothic Medium"/>
              </a:rPr>
              <a:t>и долголетен буде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Franklin Gothic Medium"/>
              </a:rPr>
              <a:t>ши ти на земл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12.mp3" descr=""/>
          <p:cNvPicPr/>
          <p:nvPr/>
        </p:nvPicPr>
        <p:blipFill>
          <a:blip r:embed="rId1"/>
          <a:stretch/>
        </p:blipFill>
        <p:spPr>
          <a:xfrm>
            <a:off x="838836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0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384360" cy="478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324000" y="1125360"/>
            <a:ext cx="8820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шёл Тихон. Он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ашля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моркалс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и, видимо,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был взволнова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т! – сказал  Тихон, осторожно развернул телеграмму и протянул её Катерине Петровне.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о Катерина Петровна её не взяла, а всё так же умоляюще смотрела на Тихона…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ожидайтесь, выехала. Остаюсь всегда любящая ваша Настя»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надо,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Тиш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! – тихо сказала Катерина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тровна. – Не надо,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милы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Бог  с тобой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Спасибо тебе за доброе слово, за ласк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ихон сидел в холодной прихожей,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курил, сплёвыва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вздыха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5564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Простые люди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Тихон говорит Манюшке : « А ты, дура, за добро плати добром, не будь пустельгой…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2852640"/>
            <a:ext cx="8677080" cy="223200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993300"/>
                </a:solidFill>
                <a:uFillTx/>
                <a:latin typeface="Times New Roman"/>
              </a:rPr>
              <a:t>ПУСТЕЛЬГ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1. Хищная птица семейства соколи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2. Легкомысленный , пустой челове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                                                       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( разговорное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ню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 шестые сутки не отходила от Катерины Петровны. Ночью она, не раздеваясь, спала на продавленном диване. Иногда Манюшке казалось, что Катерина Петровна уже не дышит. Тогда она испуганно звала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Бабка? А бабка? Ты живая?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-295920" y="4508640"/>
            <a:ext cx="9592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…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Манюшка сидела на табуретке, </a:t>
            </a:r>
            <a:r>
              <a:rPr b="1" lang="ru-RU" sz="3200" spc="-1" strike="noStrike">
                <a:solidFill>
                  <a:srgbClr val="ffff00"/>
                </a:solidFill>
                <a:latin typeface="Palatino Linotype"/>
              </a:rPr>
              <a:t>подобрав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Palatino Linotype"/>
              </a:rPr>
              <a:t>колени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, </a:t>
            </a:r>
            <a:r>
              <a:rPr b="1" lang="ru-RU" sz="3200" spc="-1" strike="noStrike">
                <a:solidFill>
                  <a:srgbClr val="ffff00"/>
                </a:solidFill>
                <a:latin typeface="Palatino Linotype"/>
              </a:rPr>
              <a:t>тряслась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 и </a:t>
            </a:r>
            <a:r>
              <a:rPr b="1" lang="ru-RU" sz="3200" spc="-1" strike="noStrike">
                <a:solidFill>
                  <a:srgbClr val="ffff00"/>
                </a:solidFill>
                <a:latin typeface="Palatino Linotype"/>
              </a:rPr>
              <a:t>смотрела не отрываясь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на Катерину Петровну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324000" y="476280"/>
            <a:ext cx="882000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Что увидела молодая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914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учительница за  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lvl="2" marL="9144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церковной оградой?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179280" y="3500280"/>
            <a:ext cx="8713800" cy="2288520"/>
          </a:xfrm>
          <a:prstGeom prst="rect">
            <a:avLst/>
          </a:prstGeom>
          <a:solidFill>
            <a:srgbClr val="feec94"/>
          </a:solidFill>
          <a:ln w="9360">
            <a:solidFill>
              <a:srgbClr val="feec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За оградой, в лёгком перепархивающем  снегу лежала любимая, чуть печальная,  родная земля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424720" cy="597708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Почему тягостная картина осеннего ненастья сменяется зимним пейзажем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дморозило. Выпал тонкий снежок. День побелел, и небо было сухое, светлое, но серое, будто над головой протянули вымытую, подмёрзшую холстину. Дали за рекой стояли сизые. От них тянуло острым и весёлым запахом снег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троки о любимой маме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 rot="20750400">
            <a:off x="468360" y="1628280"/>
            <a:ext cx="1503360" cy="218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 rot="647400">
            <a:off x="5076720" y="1700280"/>
            <a:ext cx="1463760" cy="2044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 rot="20720400">
            <a:off x="826560" y="4149360"/>
            <a:ext cx="160524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4"/>
          <a:stretch/>
        </p:blipFill>
        <p:spPr>
          <a:xfrm>
            <a:off x="3851280" y="4005360"/>
            <a:ext cx="1873080" cy="2303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 rot="20739000">
            <a:off x="2608200" y="1701360"/>
            <a:ext cx="1584360" cy="216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6"/>
          <a:stretch/>
        </p:blipFill>
        <p:spPr>
          <a:xfrm rot="577200">
            <a:off x="7308360" y="1699920"/>
            <a:ext cx="152100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"/>
          <p:cNvPicPr/>
          <p:nvPr/>
        </p:nvPicPr>
        <p:blipFill>
          <a:blip r:embed="rId7"/>
          <a:stretch/>
        </p:blipFill>
        <p:spPr>
          <a:xfrm rot="757200">
            <a:off x="6732720" y="4149360"/>
            <a:ext cx="1584360" cy="2408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rose11[1]"/>
          <p:cNvPicPr/>
          <p:nvPr/>
        </p:nvPicPr>
        <p:blipFill>
          <a:blip r:embed="rId8"/>
          <a:stretch/>
        </p:blipFill>
        <p:spPr>
          <a:xfrm>
            <a:off x="395280" y="260280"/>
            <a:ext cx="866880" cy="1247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rose3[1]"/>
          <p:cNvPicPr/>
          <p:nvPr/>
        </p:nvPicPr>
        <p:blipFill>
          <a:blip r:embed="rId9"/>
          <a:stretch/>
        </p:blipFill>
        <p:spPr>
          <a:xfrm>
            <a:off x="8101080" y="189000"/>
            <a:ext cx="866880" cy="12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5520" cy="108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59280" y="1700280"/>
            <a:ext cx="5905440" cy="496872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- Нарисуйте словесно обложку к рассказу «Телеграмм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- Расскажите , какие «зарубки на сердце» оставил у вас этот рассказ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- Сочинение – миниатюра «Письмо к матер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(Задания по выбору 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соответствии с интересами и желанием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1628640"/>
            <a:ext cx="28432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75708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Забв</a:t>
            </a: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ени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е     </a:t>
            </a:r>
            <a:r>
              <a:rPr b="1" lang="ru-RU" sz="4400" spc="-1" strike="noStrike" u="sng">
                <a:solidFill>
                  <a:srgbClr val="feec94"/>
                </a:solidFill>
                <a:uFillTx/>
                <a:latin typeface="Times New Roman"/>
              </a:rPr>
              <a:t>забы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ть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(б//бв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357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Palatino Linotype"/>
              </a:rPr>
              <a:t>Один</a:t>
            </a:r>
            <a:r>
              <a:rPr b="1" lang="ru-RU" sz="4000" spc="-1" strike="noStrike">
                <a:solidFill>
                  <a:srgbClr val="006600"/>
                </a:solidFill>
                <a:latin typeface="Palatino Linotype"/>
              </a:rPr>
              <a:t>оч</a:t>
            </a:r>
            <a:r>
              <a:rPr b="1" lang="ru-RU" sz="4000" spc="-1" strike="noStrike">
                <a:solidFill>
                  <a:srgbClr val="660033"/>
                </a:solidFill>
                <a:latin typeface="Palatino Linotype"/>
              </a:rPr>
              <a:t>еств</a:t>
            </a:r>
            <a:r>
              <a:rPr b="1" lang="ru-RU" sz="4000" spc="-1" strike="noStrike">
                <a:solidFill>
                  <a:srgbClr val="feec94"/>
                </a:solidFill>
                <a:latin typeface="Palatino Linotype"/>
              </a:rPr>
              <a:t>о     </a:t>
            </a:r>
            <a:r>
              <a:rPr b="1" lang="ru-RU" sz="4000" spc="-1" strike="noStrike" u="sng">
                <a:solidFill>
                  <a:srgbClr val="feec94"/>
                </a:solidFill>
                <a:uFillTx/>
                <a:latin typeface="Palatino Linotype"/>
              </a:rPr>
              <a:t>один</a:t>
            </a:r>
            <a:r>
              <a:rPr b="1" lang="ru-RU" sz="4000" spc="-1" strike="noStrike" u="sng">
                <a:solidFill>
                  <a:srgbClr val="006600"/>
                </a:solidFill>
                <a:uFillTx/>
                <a:latin typeface="Palatino Linotype"/>
              </a:rPr>
              <a:t>ок</a:t>
            </a:r>
            <a:r>
              <a:rPr b="1" lang="ru-RU" sz="4000" spc="-1" strike="noStrike">
                <a:solidFill>
                  <a:srgbClr val="feec94"/>
                </a:solidFill>
                <a:latin typeface="Palatino Linotype"/>
              </a:rPr>
              <a:t>ий    </a:t>
            </a:r>
            <a:r>
              <a:rPr b="1" lang="ru-RU" sz="4000" spc="-1" strike="noStrike" u="sng">
                <a:solidFill>
                  <a:srgbClr val="feec94"/>
                </a:solidFill>
                <a:uFillTx/>
                <a:latin typeface="Palatino Linotype"/>
              </a:rPr>
              <a:t>один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3895560" y="2133720"/>
            <a:ext cx="432000" cy="0"/>
          </a:xfrm>
          <a:prstGeom prst="line">
            <a:avLst/>
          </a:prstGeom>
          <a:ln w="57240">
            <a:solidFill>
              <a:srgbClr val="feec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4039920" y="3778200"/>
            <a:ext cx="431640" cy="0"/>
          </a:xfrm>
          <a:prstGeom prst="line">
            <a:avLst/>
          </a:prstGeom>
          <a:ln w="57240">
            <a:solidFill>
              <a:srgbClr val="feec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Line 7"/>
          <p:cNvSpPr/>
          <p:nvPr/>
        </p:nvSpPr>
        <p:spPr>
          <a:xfrm flipH="1">
            <a:off x="7197480" y="3738600"/>
            <a:ext cx="431640" cy="0"/>
          </a:xfrm>
          <a:prstGeom prst="line">
            <a:avLst/>
          </a:prstGeom>
          <a:ln w="57240">
            <a:solidFill>
              <a:srgbClr val="feec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На уроке вы должны </a:t>
            </a:r>
            <a:br>
              <a:rPr sz="6000"/>
            </a:b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знать: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3068640"/>
            <a:ext cx="9488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уметь: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-132480" y="1700280"/>
            <a:ext cx="9574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-</a:t>
            </a: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Какие художественные средства писатель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использует в произведении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-С какой целью автор прибегает к 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изображению деталей в рассказе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4640" y="4581360"/>
            <a:ext cx="68252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- Анализировать текст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- Видеть работу слова в тексте;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Palatino Linotype"/>
              </a:rPr>
              <a:t>- Работать творчески</a:t>
            </a: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Пейза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-36360" y="1341360"/>
            <a:ext cx="4033800" cy="2737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4176720" cy="2881440"/>
          </a:xfrm>
          <a:prstGeom prst="rect">
            <a:avLst/>
          </a:prstGeom>
          <a:ln w="0">
            <a:noFill/>
          </a:ln>
        </p:spPr>
      </p:pic>
      <p:pic>
        <p:nvPicPr>
          <p:cNvPr id="137" name="Track 12.mp3" descr=""/>
          <p:cNvPicPr/>
          <p:nvPr/>
        </p:nvPicPr>
        <p:blipFill>
          <a:blip r:embed="rId3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3"/>
          <p:cNvSpPr/>
          <p:nvPr/>
        </p:nvSpPr>
        <p:spPr>
          <a:xfrm>
            <a:off x="3995640" y="1341360"/>
            <a:ext cx="5184720" cy="2654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 Октябрь был на редкость холодный,  ненастный…Спутанная трава в саду полегла, и всё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доцветал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никак не мог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доцвест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 осыпаться один только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ленький подсолнечник у забора.»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920" y="4384800"/>
            <a:ext cx="4753080" cy="1557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ад лугами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тащили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из-за реки,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цеплялись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за облетевшие ветлы рыхлые тучи. Из них назойливо  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сыпалс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дождь.»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cover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конструируйте предложение,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сравнив образы подсолнечника и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обитательницы мемориального дом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51280" y="2421000"/>
            <a:ext cx="4968720" cy="3168720"/>
          </a:xfrm>
          <a:prstGeom prst="rect">
            <a:avLst/>
          </a:prstGeom>
          <a:solidFill>
            <a:srgbClr val="feec94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добно тому , как доцветал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икак не мог доцвесть 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осыпаться одинок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подсолнечник   у забор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доживала свой в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Катерина Петровн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3529080" cy="4606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изменения происходят в пейзажных зарисовках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68360" y="1484280"/>
          <a:ext cx="8496360" cy="4940280"/>
        </p:xfrm>
        <a:graphic>
          <a:graphicData uri="http://schemas.openxmlformats.org/drawingml/2006/table">
            <a:tbl>
              <a:tblPr/>
              <a:tblGrid>
                <a:gridCol w="2521080"/>
                <a:gridCol w="2808000"/>
                <a:gridCol w="3167280"/>
              </a:tblGrid>
              <a:tr h="35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ктябрь был на редкость холодный, ненастный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етер свистел за окнами в голых ветвях, сбивал последние листья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очи были уже долгие, тяжёлые, как бессонница. Рассвет всё больше медлил, всё запаздывал 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Freeform 17"/>
          <p:cNvSpPr/>
          <p:nvPr/>
        </p:nvSpPr>
        <p:spPr>
          <a:xfrm>
            <a:off x="468360" y="4653000"/>
            <a:ext cx="8136000" cy="1368360"/>
          </a:xfrm>
          <a:custGeom>
            <a:avLst/>
            <a:gdLst>
              <a:gd name="textAreaLeft" fmla="*/ 0 w 8136000"/>
              <a:gd name="textAreaRight" fmla="*/ 8136360 w 8136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5125" h="862">
                <a:moveTo>
                  <a:pt x="0" y="45"/>
                </a:moveTo>
                <a:lnTo>
                  <a:pt x="5125" y="0"/>
                </a:lnTo>
                <a:lnTo>
                  <a:pt x="5125" y="862"/>
                </a:lnTo>
                <a:lnTo>
                  <a:pt x="0" y="86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468360" y="4653000"/>
            <a:ext cx="8494560" cy="1800360"/>
          </a:xfrm>
          <a:custGeom>
            <a:avLst/>
            <a:gdLst>
              <a:gd name="textAreaLeft" fmla="*/ 0 w 8494560"/>
              <a:gd name="textAreaRight" fmla="*/ 8494920 w 849456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5125" h="862">
                <a:moveTo>
                  <a:pt x="0" y="45"/>
                </a:moveTo>
                <a:lnTo>
                  <a:pt x="5125" y="0"/>
                </a:lnTo>
                <a:lnTo>
                  <a:pt x="5125" y="862"/>
                </a:lnTo>
                <a:lnTo>
                  <a:pt x="0" y="862"/>
                </a:lnTo>
                <a:lnTo>
                  <a:pt x="0" y="45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2960640" y="5157720"/>
            <a:ext cx="290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Palatino Linotype"/>
              </a:rPr>
              <a:t>ГРАДАЦИЯ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Интерь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Picture 12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3672000" cy="47527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35280" y="1915920"/>
            <a:ext cx="56880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мнаты, где застоялся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орьки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запах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топленых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ечей,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ыль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естник Европы»,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желтевш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ашки на столе, давно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ищенный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самовар и картины 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нах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Ма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Picture 21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8360" y="2565000"/>
            <a:ext cx="3744720" cy="1871640"/>
          </a:xfrm>
          <a:prstGeom prst="rect">
            <a:avLst/>
          </a:prstGeom>
          <a:solidFill>
            <a:srgbClr val="fef1b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катерина</a:t>
            </a: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993300"/>
                </a:solidFill>
                <a:latin typeface="Times New Roman"/>
              </a:rPr>
              <a:t>непорочна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30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537080" cy="27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9:48:22Z</dcterms:created>
  <dc:creator>maxim</dc:creator>
  <dc:description/>
  <dc:language>en-US</dc:language>
  <cp:lastModifiedBy>Borbet</cp:lastModifiedBy>
  <dcterms:modified xsi:type="dcterms:W3CDTF">2011-02-03T09:13:09Z</dcterms:modified>
  <cp:revision>78</cp:revision>
  <dc:subject/>
  <dc:title>Слайд 1</dc:title>
</cp:coreProperties>
</file>