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3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15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1.jpeg" ContentType="image/jpeg"/>
  <Override PartName="/ppt/media/image9.wmf" ContentType="image/x-wmf"/>
  <Override PartName="/ppt/media/image5.jpeg" ContentType="image/jpeg"/>
  <Override PartName="/ppt/media/image7.gif" ContentType="image/gif"/>
  <Override PartName="/ppt/media/image8.gif" ContentType="image/gif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8C17-9823-4CEC-8CE1-9BEC3DCB9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2DF0-49A6-4FC9-AAD7-0B0369F3C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E01F-2B25-478B-9109-9B1CFB508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108-4330-4D9B-99AE-DA94424D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6B5-E91C-49A0-A183-CC78B12D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4A8-8DE4-4D9B-B11F-D0DC6033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C7E-5579-48BD-A4E0-FF676862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8AF5-F52B-49B5-8FCE-94202843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46D2-CBD6-4E8C-BDD8-96CCB5CB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35D8-817D-4E28-96A8-B8352A8D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D8A2-5B98-4433-BE04-90A9F99D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A1D4-4544-43A0-A07B-FEA0A971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8E68-A34F-4C3D-BA2D-AE5944E7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AE7-E258-49E7-A965-D8081A26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267-8D90-4A95-B79C-C5DE89FD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0734-E5D7-4254-A079-3C9A21E7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7ED5-C04D-4034-80AC-9BF8E174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2F28-DE61-44E4-9D7D-1C367A06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A568-2A51-4934-98E1-F9F2FE23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DF97-9EE1-413B-A6CF-B22D2837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BE384-9A51-4215-B6D9-A9815B62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1BA0-377D-4289-AD1D-3B15CD14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DBF0-23C4-4CC9-BD7F-8C993B89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1095-3955-4A99-BAE3-F3E94213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B339-D209-4ED4-9E40-480E3669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B22-7812-4E2F-8C94-7B4DAEC4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A24F-DF9C-42A7-9AF2-413ECBBA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B4BA-6237-471A-BF1A-161FAD73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001D-17A9-4E4A-AEFD-43A66706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C651-7266-4519-8A4D-9A87E74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F9FD-E32E-450D-A178-71B2E6F4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7D81-D8D5-48F1-B9C1-B356EF7F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6161-1247-4A10-B597-C4F09E63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D5F59-C5ED-478D-A3A3-248EE52F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4314-B22E-446C-A4C7-92726443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313F-45A4-4DFE-97D8-2E67ADCE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5BB-BC52-4338-968C-5836E4DD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8D07-9916-415D-BB91-F24EC810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969B-4AC3-4AA6-AE99-01AA6B18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C2CB3-0AA9-4F5F-91C2-791D13A3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615B-50FB-4412-A435-745AAF51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1070-FC8C-4334-8969-638CD296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8695-A255-43A0-86C1-F9EDD0C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F151-18F7-49EC-9B5D-45BCD8A0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1E4D-E4F8-4BC3-BAC0-E75C0F91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0480-D091-4506-AC3A-08E908C9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0D3-5CDA-4923-A41B-AE4D10FC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6A1-0781-4B45-BB1C-985F5374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503-24E8-44E2-8657-0A259AF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4CC-1DCD-416F-AB87-4245762F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F71-081E-4B2C-9E93-90E47C0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eba"/>
            </a:gs>
            <a:gs pos="100000">
              <a:srgbClr val="9ce0f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B95-8E32-48E5-A758-C81977690B2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eba"/>
            </a:gs>
            <a:gs pos="100000">
              <a:srgbClr val="9ce0f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272E-369D-43CE-A2D5-4468D9DAD7B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eba"/>
            </a:gs>
            <a:gs pos="100000">
              <a:srgbClr val="9ce0f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F848-7A4D-4969-8F42-6BD0FF6C715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eba"/>
            </a:gs>
            <a:gs pos="100000">
              <a:srgbClr val="9ce0f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F87D-56D7-4757-B278-0E53F80C66D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 flipH="1">
            <a:off x="108000" y="112536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643640" y="879480"/>
            <a:ext cx="4679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Шедев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существу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не толь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в искусстве, 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и в прир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К. 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50.Я ПРИГЛАШАЮ ВАС В ЛЕСА.mp3" descr=""/>
          <p:cNvPicPr/>
          <p:nvPr/>
        </p:nvPicPr>
        <p:blipFill>
          <a:blip r:embed="rId1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50.Я ПРИГЛАШАЮ ВАС В ЛЕС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111111111111"/>
          <p:cNvPicPr/>
          <p:nvPr/>
        </p:nvPicPr>
        <p:blipFill>
          <a:blip r:embed="rId3"/>
          <a:srcRect l="0" t="3332" r="33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5104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104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0" y="620640"/>
            <a:ext cx="8183520" cy="1008000"/>
          </a:xfrm>
          <a:prstGeom prst="rect">
            <a:avLst/>
          </a:prstGeom>
          <a:solidFill>
            <a:srgbClr val="fde7c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берите номера предложений, в которых союз как присоединя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10000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827640" y="0"/>
            <a:ext cx="3836880" cy="459720"/>
          </a:xfrm>
          <a:prstGeom prst="rect">
            <a:avLst/>
          </a:prstGeom>
          <a:solidFill>
            <a:srgbClr val="9c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работаем в групп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0" y="1700280"/>
            <a:ext cx="4392720" cy="2349000"/>
          </a:xfrm>
          <a:prstGeom prst="rect">
            <a:avLst/>
          </a:prstGeom>
          <a:solidFill>
            <a:srgbClr val="a8f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 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иложение </a:t>
            </a:r>
            <a:r>
              <a:rPr b="1" i="1" lang="ru-RU" sz="2800" spc="-1" strike="noStrike">
                <a:solidFill>
                  <a:srgbClr val="674d26"/>
                </a:solidFill>
                <a:latin typeface="Arial"/>
              </a:rPr>
              <a:t>(«ка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74d26"/>
                </a:solidFill>
                <a:latin typeface="Arial"/>
              </a:rPr>
              <a:t>можно  замен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74d26"/>
                </a:solidFill>
                <a:latin typeface="Arial"/>
              </a:rPr>
              <a:t>«будучи», име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74d26"/>
                </a:solidFill>
                <a:latin typeface="Arial"/>
              </a:rPr>
              <a:t>значение причины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4427640" y="1628640"/>
            <a:ext cx="5040360" cy="2775600"/>
          </a:xfrm>
          <a:prstGeom prst="rect">
            <a:avLst/>
          </a:prstGeom>
          <a:solidFill>
            <a:srgbClr val="f0e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 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иложе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71f28"/>
                </a:solidFill>
                <a:latin typeface="Arial"/>
              </a:rPr>
              <a:t>(«как» можно  заменить «в качестве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1f28"/>
                </a:solidFill>
                <a:latin typeface="Arial"/>
              </a:rPr>
              <a:t>характеризует предмет с одной сторон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0" y="4140360"/>
            <a:ext cx="4367160" cy="2623320"/>
          </a:xfrm>
          <a:prstGeom prst="rect">
            <a:avLst/>
          </a:prstGeom>
          <a:solidFill>
            <a:srgbClr val="c7fd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3 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ительный 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(имеет зна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уподобл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=«подобн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4356000" y="4149720"/>
            <a:ext cx="4788000" cy="2997720"/>
          </a:xfrm>
          <a:prstGeom prst="rect">
            <a:avLst/>
          </a:prstGeom>
          <a:solidFill>
            <a:srgbClr val="fec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4 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ительный 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(«обозначает образ действия»,  как?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им образом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8317080" y="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fec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960" y="-1429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8542"/>
                </a:solidFill>
                <a:latin typeface="Times New Roman"/>
                <a:ea typeface="Times New Roman"/>
              </a:rPr>
              <a:t>Ключ к заданию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1 груп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, как дерево смолистое, с трудом поддаётся гниени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жья коровка, как жучок из детских стихов, пользуется особой любовью малыш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C:\!мама\Анимашки\0007.gif"/>
          <p:cNvPicPr/>
          <p:nvPr/>
        </p:nvPicPr>
        <p:blipFill>
          <a:blip r:embed="rId1"/>
          <a:stretch/>
        </p:blipFill>
        <p:spPr>
          <a:xfrm>
            <a:off x="-357120" y="214200"/>
            <a:ext cx="5210280" cy="15717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5"/>
          <p:cNvSpPr/>
          <p:nvPr/>
        </p:nvSpPr>
        <p:spPr>
          <a:xfrm>
            <a:off x="7858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8542"/>
                </a:solidFill>
                <a:latin typeface="Times New Roman"/>
                <a:ea typeface="Times New Roman"/>
              </a:rPr>
              <a:t>Ключ к заданию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2 груп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уса вошла в историю нашего искусства как место плодотворного вдохнов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кал привлекает внимание учёных и любителей природы как явление глобального знач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" descr="C:\!мама\Анимашки\0007.gif"/>
          <p:cNvPicPr/>
          <p:nvPr/>
        </p:nvPicPr>
        <p:blipFill>
          <a:blip r:embed="rId1"/>
          <a:stretch/>
        </p:blipFill>
        <p:spPr>
          <a:xfrm>
            <a:off x="-396720" y="189000"/>
            <a:ext cx="4975200" cy="150012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5"/>
          <p:cNvSpPr/>
          <p:nvPr/>
        </p:nvSpPr>
        <p:spPr>
          <a:xfrm>
            <a:off x="7858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8542"/>
                </a:solidFill>
                <a:latin typeface="Times New Roman"/>
                <a:ea typeface="Times New Roman"/>
              </a:rPr>
              <a:t>Ключ к заданию 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3 групп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зу, как зеркало стальное, синеют озера стру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тра ползли серые, как дым, обла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C:\!мама\Анимашки\0007.gif"/>
          <p:cNvPicPr/>
          <p:nvPr/>
        </p:nvPicPr>
        <p:blipFill>
          <a:blip r:embed="rId1"/>
          <a:stretch/>
        </p:blipFill>
        <p:spPr>
          <a:xfrm>
            <a:off x="-406440" y="357120"/>
            <a:ext cx="4478400" cy="13510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7858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8542"/>
                </a:solidFill>
                <a:latin typeface="Times New Roman"/>
                <a:ea typeface="Times New Roman"/>
              </a:rPr>
              <a:t>Ключ к заданию 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4 групп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рницы в небе они запылал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 зарницам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амень упал сокол на земл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 камне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C:\!мама\Анимашки\0007.gif"/>
          <p:cNvPicPr/>
          <p:nvPr/>
        </p:nvPicPr>
        <p:blipFill>
          <a:blip r:embed="rId1"/>
          <a:stretch/>
        </p:blipFill>
        <p:spPr>
          <a:xfrm>
            <a:off x="-357120" y="406440"/>
            <a:ext cx="4572000" cy="137952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5"/>
          <p:cNvSpPr/>
          <p:nvPr/>
        </p:nvSpPr>
        <p:spPr>
          <a:xfrm>
            <a:off x="7858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2000" y="2133720"/>
            <a:ext cx="889164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) Внизу как озеро стальное синеют озера струи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2)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еса необходимо охранять и беречь как зеницу о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да в заливе как будто чёрная тушь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4)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к дерево Иуды осина в народе пользуется дурной слав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11" descr="ag00317_"/>
          <p:cNvPicPr/>
          <p:nvPr/>
        </p:nvPicPr>
        <p:blipFill>
          <a:blip r:embed="rId1"/>
          <a:stretch/>
        </p:blipFill>
        <p:spPr>
          <a:xfrm>
            <a:off x="-252360" y="0"/>
            <a:ext cx="3174840" cy="2492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3273120" y="907920"/>
            <a:ext cx="3965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f2936"/>
                </a:solidFill>
                <a:uFillTx/>
                <a:latin typeface="Arial"/>
              </a:rPr>
              <a:t>Поработаем самостоятельно</a:t>
            </a:r>
            <a:r>
              <a:rPr b="1" lang="ru-RU" sz="1800" spc="-1" strike="noStrike" u="sng">
                <a:solidFill>
                  <a:srgbClr val="9f2936"/>
                </a:solidFill>
                <a:uFillTx/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213800" y="1890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Задание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335680" y="1773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ставьте недостающие знаки препи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7000"/>
          </a:bodyPr>
          <a:p>
            <a:pPr marL="203760" indent="-2037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         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Ключ к заданию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3760" indent="-2037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3760" indent="-2037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3760" indent="-20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низу, как озеро стальное, синеют озера стру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03760" indent="-20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необходимо охранять и беречь как зеницу о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03760" indent="-20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в заливе как будто чёрная туш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03760" indent="-20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ерево Иуды, осина в народе пользуется дурной славо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03760" indent="-203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0" descr="ag00315_"/>
          <p:cNvPicPr/>
          <p:nvPr/>
        </p:nvPicPr>
        <p:blipFill>
          <a:blip r:embed="rId1"/>
          <a:stretch/>
        </p:blipFill>
        <p:spPr>
          <a:xfrm>
            <a:off x="250920" y="0"/>
            <a:ext cx="170964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333000"/>
            <a:ext cx="882000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6000"/>
          </a:bodyPr>
          <a:p>
            <a:pPr marL="201240" indent="-2012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ие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щёра – остаток лесного океана. Мещёрские леса величественны,</a:t>
            </a:r>
            <a:r>
              <a:rPr b="1" lang="ru-RU" sz="28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 сухим сосновым борам идёшь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 километры земля покрыта сухим, мягким мх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ветер леса шумят. Гул,                      , проходит по вершинам сосе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Г. Паустовски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135240" y="12682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Times New Roman"/>
              </a:rPr>
              <a:t>как кафедральные собо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41800" y="270828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Times New Roman"/>
              </a:rPr>
              <a:t>как по глубокому дорогому ков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503240" y="44370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Times New Roman"/>
              </a:rPr>
              <a:t>как вол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CBIZ038"/>
          <p:cNvPicPr/>
          <p:nvPr/>
        </p:nvPicPr>
        <p:blipFill>
          <a:blip r:embed="rId1"/>
          <a:stretch/>
        </p:blipFill>
        <p:spPr>
          <a:xfrm>
            <a:off x="324000" y="620640"/>
            <a:ext cx="5400360" cy="50990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1269360" y="981000"/>
            <a:ext cx="188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3c29"/>
                </a:solidFill>
                <a:latin typeface="Arial"/>
              </a:rPr>
              <a:t>1.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А)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Б)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В) 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Г) 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V="1">
            <a:off x="5492880" y="259920"/>
            <a:ext cx="4119480" cy="3167280"/>
          </a:xfrm>
          <a:prstGeom prst="cloudCallout">
            <a:avLst>
              <a:gd name="adj1" fmla="val -77671"/>
              <a:gd name="adj2" fmla="val -19726"/>
            </a:avLst>
          </a:prstGeom>
          <a:solidFill>
            <a:srgbClr val="f0ee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43c29"/>
                </a:solidFill>
                <a:latin typeface="Arial"/>
              </a:rPr>
              <a:t>2.</a:t>
            </a:r>
            <a:r>
              <a:rPr b="1" lang="ru-RU" sz="4800" spc="-1" strike="noStrike">
                <a:solidFill>
                  <a:srgbClr val="b90f0f"/>
                </a:solidFill>
                <a:latin typeface="Arial"/>
              </a:rPr>
              <a:t> 3), 5), 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:\!мама\Презентации\1213108419484e90c30162d1.40933755.jpg"/>
          <p:cNvPicPr/>
          <p:nvPr/>
        </p:nvPicPr>
        <p:blipFill>
          <a:blip r:embed="rId1"/>
          <a:stretch/>
        </p:blipFill>
        <p:spPr>
          <a:xfrm>
            <a:off x="0" y="0"/>
            <a:ext cx="9551880" cy="7532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-1225440" y="3789360"/>
            <a:ext cx="1036944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17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Закат тяжело пылая золотит их старинной позолотой. Внизу, у подножия сосен тесно столпившихся у воды уже темно и глухо. Летучие мыши, как предвестники скорой ночи, бесшумно летают и как будто заглядывают в лицо. А вечером блеснёт, наконец, озеро, как чёрное, косо поставленное зерка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0" y="259920"/>
            <a:ext cx="914400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1000"/>
          </a:bodyPr>
          <a:p>
            <a:pPr marL="214560" indent="-214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         </a:t>
            </a: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Довольны ли вы результатом своей работы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Какие трудности возникли во время урок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Как вы решите эту пробл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А) Обратитесь к товарищ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Б) Обратитесь к учител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В) Решу сам, пользуясь ориентировочной таблицей и учебни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Что помогало, мешало в работе групп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12" descr="40"/>
          <p:cNvPicPr/>
          <p:nvPr/>
        </p:nvPicPr>
        <p:blipFill>
          <a:blip r:embed="rId1"/>
          <a:stretch/>
        </p:blipFill>
        <p:spPr>
          <a:xfrm flipH="1">
            <a:off x="6286320" y="5540400"/>
            <a:ext cx="19285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8" descr="D:\Dia\Картинки\для презентаций\BDRLC089.WMF"/>
          <p:cNvPicPr/>
          <p:nvPr/>
        </p:nvPicPr>
        <p:blipFill>
          <a:blip r:embed="rId1"/>
          <a:stretch/>
        </p:blipFill>
        <p:spPr>
          <a:xfrm>
            <a:off x="-14292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4788000" y="476280"/>
            <a:ext cx="3743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0f0f"/>
                </a:solidFill>
                <a:latin typeface="Arial"/>
              </a:rPr>
              <a:t>1-2 уро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§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40, упр. 2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0f0f"/>
                </a:solidFill>
                <a:latin typeface="Arial"/>
              </a:rPr>
              <a:t>3-4  уровень:</a:t>
            </a:r>
            <a:r>
              <a:rPr b="0" lang="ru-RU" sz="3200" spc="-1" strike="noStrike">
                <a:solidFill>
                  <a:srgbClr val="b90f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§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40, упр. 2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0f0f"/>
                </a:solidFill>
                <a:latin typeface="Arial"/>
              </a:rPr>
              <a:t>5 уровень: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§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40, упр. 2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642960" y="714240"/>
            <a:ext cx="349236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2" descr="pe02604_"/>
          <p:cNvPicPr/>
          <p:nvPr/>
        </p:nvPicPr>
        <p:blipFill>
          <a:blip r:embed="rId2"/>
          <a:stretch/>
        </p:blipFill>
        <p:spPr>
          <a:xfrm>
            <a:off x="571680" y="2143080"/>
            <a:ext cx="375588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45"/>
          <p:cNvSpPr txBox="1"/>
          <p:nvPr/>
        </p:nvSpPr>
        <p:spPr>
          <a:xfrm>
            <a:off x="2490840" y="907920"/>
            <a:ext cx="4162320" cy="540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лодцы! Учитесь! Удачи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60" name="Picture 4" descr="G:\картинки школа\25231408.jpg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те недостающие знаки препи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и объясните постановку запяты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обособленные второстепенные члены предложения вы выделили знаками препинан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т, тяжело пылая на кронах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ев, золотит их старинной позолотой. Внизу, у подножия сосен, тесно столпившихся у воды, уже темно и глухо. Летучие мыши,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редвестники скорой ноч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шумно летают и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удто заглядывают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цо. А вечером блеснёт, наконец, озеро,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чёрное, косо поставленное зеркал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Box 235"/>
          <p:cNvSpPr/>
          <p:nvPr/>
        </p:nvSpPr>
        <p:spPr>
          <a:xfrm>
            <a:off x="75600" y="-712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40719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Знаки препинания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в предложениях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имеющих оборот с союзом как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93" name="Picture 5" descr="25232105"/>
          <p:cNvPicPr/>
          <p:nvPr/>
        </p:nvPicPr>
        <p:blipFill>
          <a:blip r:embed="rId1"/>
          <a:stretch/>
        </p:blipFill>
        <p:spPr>
          <a:xfrm>
            <a:off x="1692360" y="0"/>
            <a:ext cx="564984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ctr">
              <a:lnSpc>
                <a:spcPct val="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Зн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конструкции могут присоединяться союзом как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остановки знаков препинания при ни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Уметь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знавать конструкции с союзом как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их значени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ь знаки препинания в предложениях с союзом как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в речи конструкции с ка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7" descr="знак"/>
          <p:cNvPicPr/>
          <p:nvPr/>
        </p:nvPicPr>
        <p:blipFill>
          <a:blip r:embed="rId1"/>
          <a:stretch/>
        </p:blipFill>
        <p:spPr>
          <a:xfrm>
            <a:off x="-36360" y="-714240"/>
            <a:ext cx="742680" cy="2376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знак"/>
          <p:cNvPicPr/>
          <p:nvPr/>
        </p:nvPicPr>
        <p:blipFill>
          <a:blip r:embed="rId2"/>
          <a:stretch/>
        </p:blipFill>
        <p:spPr>
          <a:xfrm>
            <a:off x="12600" y="1071720"/>
            <a:ext cx="7430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0"/>
          <a:ext cx="9144000" cy="7497720"/>
        </p:xfrm>
        <a:graphic>
          <a:graphicData uri="http://schemas.openxmlformats.org/drawingml/2006/table">
            <a:tbl>
              <a:tblPr/>
              <a:tblGrid>
                <a:gridCol w="3048120"/>
                <a:gridCol w="3024000"/>
                <a:gridCol w="3071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Конструкция с союзом к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9859"/>
                      </a:solidFill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5fd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5fd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Наличие знака препи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5fd9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71f28"/>
                          </a:solidFill>
                          <a:latin typeface="Times New Roman"/>
                          <a:ea typeface="Times New Roman"/>
                        </a:rPr>
                        <a:t>( «как» замени «будучи», имеет значение причин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9859"/>
                      </a:solidFill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9ce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ромский, как образованный европеец, подъехал к своему противнику и учтиво его приветство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9ce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9ce0fe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(«как» = «в качестве» или характеризует предм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с одной сторон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9859"/>
                      </a:solidFill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de7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овоззрение Левитана как художника разделяли многие представители русского изобразительного искус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de7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de7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ый обор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83f04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783f04"/>
                          </a:solidFill>
                          <a:latin typeface="Times New Roman"/>
                          <a:ea typeface="Times New Roman"/>
                        </a:rPr>
                        <a:t>(«как» = «подобно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9859"/>
                      </a:solidFill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ый дворец гудел 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ра , как громадный струнный орк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ый оборот </a:t>
                      </a:r>
                      <a:r>
                        <a:rPr b="1" lang="ru-RU" sz="18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(имеет значение образа действия, как? каким образом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9859"/>
                      </a:solidFill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de7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дым рассеялись мечты </a:t>
                      </a:r>
                      <a:r>
                        <a:rPr b="1" i="1" lang="ru-RU" sz="20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(дымом, легк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de7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de7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сказуемого </a:t>
                      </a:r>
                      <a:r>
                        <a:rPr b="1" lang="ru-RU" sz="1800" spc="-1" strike="noStrike">
                          <a:solidFill>
                            <a:srgbClr val="3b6431"/>
                          </a:solidFill>
                          <a:latin typeface="Times New Roman"/>
                          <a:ea typeface="Times New Roman"/>
                        </a:rPr>
                        <a:t>(глагольного, именног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9859"/>
                      </a:solidFill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a8f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как са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a8f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a8fe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 фразеолог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9859"/>
                      </a:solidFill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de7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ни отбежали немного и стали как вкопа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de7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de7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9859"/>
                      </a:solidFill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sp>
        <p:nvSpPr>
          <p:cNvPr id="198" name="Line 41"/>
          <p:cNvSpPr/>
          <p:nvPr/>
        </p:nvSpPr>
        <p:spPr>
          <a:xfrm>
            <a:off x="3059280" y="0"/>
            <a:ext cx="0" cy="875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2"/>
          <p:cNvSpPr/>
          <p:nvPr/>
        </p:nvSpPr>
        <p:spPr>
          <a:xfrm>
            <a:off x="6084720" y="0"/>
            <a:ext cx="0" cy="875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3"/>
          <p:cNvSpPr/>
          <p:nvPr/>
        </p:nvSpPr>
        <p:spPr>
          <a:xfrm>
            <a:off x="6512040" y="1079640"/>
            <a:ext cx="1752120" cy="703800"/>
          </a:xfrm>
          <a:prstGeom prst="rect">
            <a:avLst/>
          </a:prstGeom>
          <a:solidFill>
            <a:srgbClr val="e5f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я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4"/>
          <p:cNvSpPr/>
          <p:nvPr/>
        </p:nvSpPr>
        <p:spPr>
          <a:xfrm>
            <a:off x="6442920" y="2492280"/>
            <a:ext cx="2190960" cy="703800"/>
          </a:xfrm>
          <a:prstGeom prst="rect">
            <a:avLst/>
          </a:prstGeom>
          <a:solidFill>
            <a:srgbClr val="9c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выде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я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5"/>
          <p:cNvSpPr/>
          <p:nvPr/>
        </p:nvSpPr>
        <p:spPr>
          <a:xfrm>
            <a:off x="6516720" y="3789360"/>
            <a:ext cx="1752120" cy="703800"/>
          </a:xfrm>
          <a:prstGeom prst="rect">
            <a:avLst/>
          </a:prstGeom>
          <a:solidFill>
            <a:srgbClr val="e5f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я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6414480" y="4870440"/>
            <a:ext cx="2190960" cy="703800"/>
          </a:xfrm>
          <a:prstGeom prst="rect">
            <a:avLst/>
          </a:prstGeom>
          <a:solidFill>
            <a:srgbClr val="9c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я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я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7"/>
          <p:cNvSpPr/>
          <p:nvPr/>
        </p:nvSpPr>
        <p:spPr>
          <a:xfrm>
            <a:off x="6516000" y="5727600"/>
            <a:ext cx="2190960" cy="703800"/>
          </a:xfrm>
          <a:prstGeom prst="rect">
            <a:avLst/>
          </a:prstGeom>
          <a:solidFill>
            <a:srgbClr val="9c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я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я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6485760" y="6370560"/>
            <a:ext cx="2190960" cy="703800"/>
          </a:xfrm>
          <a:prstGeom prst="rect">
            <a:avLst/>
          </a:prstGeom>
          <a:solidFill>
            <a:srgbClr val="9c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я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я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71680" y="-3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Поработаем в парах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становите соответств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между левой и прав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олонками табл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752" descr="Ins09"/>
          <p:cNvPicPr/>
          <p:nvPr/>
        </p:nvPicPr>
        <p:blipFill>
          <a:blip r:embed="rId1"/>
          <a:stretch/>
        </p:blipFill>
        <p:spPr>
          <a:xfrm>
            <a:off x="-642960" y="571680"/>
            <a:ext cx="3773520" cy="13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0" y="1984320"/>
          <a:ext cx="9144000" cy="469116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19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А) Костёр перед нами расцвёл, как большой красно – жёлтый цвет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f2936"/>
                          </a:solidFill>
                          <a:latin typeface="Times New Roman"/>
                        </a:rPr>
                        <a:t>1. Как входит в состав сказуемог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119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Б) Как дерево с мягкой древесиной, тополь в строительстве не использует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f2936"/>
                          </a:solidFill>
                          <a:latin typeface="Times New Roman"/>
                        </a:rPr>
                        <a:t>2.Как входит в состав сравнительного оборота со значением уподобл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9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В) Косой дождь, гонимый сильным ветром, лил как из вед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f2936"/>
                          </a:solidFill>
                          <a:latin typeface="Times New Roman"/>
                        </a:rPr>
                        <a:t>3. Как присоединяет приложение (как можно заменить «будучи»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1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Г)  Тучи сегодня как свинцовы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f2936"/>
                          </a:solidFill>
                          <a:latin typeface="Times New Roman"/>
                          <a:ea typeface="Times New Roman"/>
                        </a:rPr>
                        <a:t>4. Как входит в состав фразеологиз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</a:tbl>
          </a:graphicData>
        </a:graphic>
      </p:graphicFrame>
      <p:sp>
        <p:nvSpPr>
          <p:cNvPr id="209" name="Line 28"/>
          <p:cNvSpPr/>
          <p:nvPr/>
        </p:nvSpPr>
        <p:spPr>
          <a:xfrm>
            <a:off x="4572000" y="1989000"/>
            <a:ext cx="0" cy="46087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218160" y="-712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CBIZ038"/>
          <p:cNvPicPr/>
          <p:nvPr/>
        </p:nvPicPr>
        <p:blipFill>
          <a:blip r:embed="rId1"/>
          <a:stretch/>
        </p:blipFill>
        <p:spPr>
          <a:xfrm>
            <a:off x="324000" y="620640"/>
            <a:ext cx="5400360" cy="50990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260360" y="981000"/>
            <a:ext cx="142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А)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Б) 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В) 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Г)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V="1">
            <a:off x="5492880" y="259920"/>
            <a:ext cx="4119480" cy="3167280"/>
          </a:xfrm>
          <a:prstGeom prst="cloudCallout">
            <a:avLst>
              <a:gd name="adj1" fmla="val -77671"/>
              <a:gd name="adj2" fmla="val -19726"/>
            </a:avLst>
          </a:prstGeom>
          <a:solidFill>
            <a:srgbClr val="f0ee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Arial"/>
              </a:rPr>
              <a:t>Ответы к заданию </a:t>
            </a:r>
            <a:r>
              <a:rPr b="1" lang="ru-RU" sz="6000" spc="-1" strike="noStrike">
                <a:solidFill>
                  <a:srgbClr val="b90f0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1:09:40Z</dcterms:created>
  <dc:creator>Admin</dc:creator>
  <dc:description/>
  <dc:language>en-US</dc:language>
  <cp:lastModifiedBy>Admin</cp:lastModifiedBy>
  <dcterms:modified xsi:type="dcterms:W3CDTF">2011-02-03T19:16:47Z</dcterms:modified>
  <cp:revision>112</cp:revision>
  <dc:subject/>
  <dc:title>Знаки препинания в предложениях с союзом как</dc:title>
</cp:coreProperties>
</file>