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D7C1-0299-4942-AD8B-1BF352067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4FBA-A5B3-403B-AE8A-BE4E0A344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FFA3-759C-47A8-8BF4-6A2645E07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FFCE-7DF0-4C35-A50E-9DCEC672B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B5A03-96FB-4183-AE2D-DD4D57064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59A68-AD74-4DED-9F64-75CA6C7B8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DD56D-DBD9-4EBD-840F-A164B681C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83A87-E038-4A25-886C-8A22F5F4E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C4489-D2D7-47EE-BA58-277D013FC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C2A08-4EBB-4321-8F4F-94B30CF83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6C352-50B3-4C90-B422-B8A0B00B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6587-23CB-4713-A74F-E8CF9AFDF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AFD42-E393-4051-B87E-5732CA89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93525-02F2-4152-B0E9-2D7449C1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CA465-F786-43E1-AB6B-045888DA9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14D32-8BA5-4738-8F87-56F1D4795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8E448-782E-4991-B48F-AD5A6ECFD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0236-E276-46E4-9301-34D6EC955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F8CB-5DAB-43FD-9CB6-D69F24C16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E025-96C0-490A-815C-38710D48C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96C3-4F37-4356-9F34-4EC459BF6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89C6-F196-4933-B152-C9290339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F1EF-9D6E-4E7E-87A8-E90E5B1F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E8B4-7700-4714-BCE5-7B19049C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A6D36-D560-4E83-8B4E-E395E315451C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B4AD4-2FD3-4BE5-9B35-89DB01AF30F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395280" y="1700280"/>
            <a:ext cx="712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950760" y="1643040"/>
            <a:ext cx="549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324000" y="1413000"/>
            <a:ext cx="842472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ffff00"/>
                </a:solidFill>
                <a:uFillTx/>
                <a:latin typeface="Tahoma"/>
              </a:rPr>
              <a:t>Тема:</a:t>
            </a:r>
            <a:r>
              <a:rPr b="0" lang="ru-RU" sz="2500" spc="-1" strike="noStrike">
                <a:solidFill>
                  <a:srgbClr val="ffff00"/>
                </a:solidFill>
                <a:latin typeface="Tahoma"/>
              </a:rPr>
              <a:t>  о солдате, который защищает Родину от врага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ffff00"/>
                </a:solidFill>
                <a:uFillTx/>
                <a:latin typeface="Tahoma"/>
              </a:rPr>
              <a:t>Идея:</a:t>
            </a:r>
            <a:r>
              <a:rPr b="1" lang="ru-RU" sz="25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ru-RU" sz="2500" spc="-1" strike="noStrike">
                <a:solidFill>
                  <a:srgbClr val="ffff00"/>
                </a:solidFill>
                <a:latin typeface="Tahoma"/>
              </a:rPr>
              <a:t>Бой идёт святой и правый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00"/>
                </a:solidFill>
                <a:latin typeface="Tahoma"/>
              </a:rPr>
              <a:t>Смертный бой не ради славы –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00"/>
                </a:solidFill>
                <a:latin typeface="Tahoma"/>
              </a:rPr>
              <a:t>Ради жизни на земле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9" descr=""/>
          <p:cNvPicPr/>
          <p:nvPr/>
        </p:nvPicPr>
        <p:blipFill>
          <a:blip r:embed="rId1"/>
          <a:stretch/>
        </p:blipFill>
        <p:spPr>
          <a:xfrm>
            <a:off x="5580000" y="2421000"/>
            <a:ext cx="2951280" cy="417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2" name="WordArt 10"/>
          <p:cNvSpPr txBox="1"/>
          <p:nvPr/>
        </p:nvSpPr>
        <p:spPr>
          <a:xfrm>
            <a:off x="1763640" y="260280"/>
            <a:ext cx="5543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«Книга про бойца»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4"/>
          <p:cNvSpPr txBox="1"/>
          <p:nvPr/>
        </p:nvSpPr>
        <p:spPr>
          <a:xfrm>
            <a:off x="971640" y="620640"/>
            <a:ext cx="7488000" cy="27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ень рождения</a:t>
            </a:r>
            <a:endParaRPr b="0" lang="en-US" sz="3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36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Василия Тёркина"</a:t>
            </a:r>
            <a:endParaRPr b="0" lang="en-US" sz="36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1464840" y="4076640"/>
            <a:ext cx="674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4 сентября 1942 год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3924360" y="1125360"/>
            <a:ext cx="521964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Ни одна из моих работ не давалась мне так трудно поначалу и не шла так легко потом, как «Василий Тёркин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А. Т. Твардовск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826920" y="404640"/>
            <a:ext cx="712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rcRect l="1965" t="1404" r="816" b="1382"/>
          <a:stretch/>
        </p:blipFill>
        <p:spPr>
          <a:xfrm>
            <a:off x="179280" y="765000"/>
            <a:ext cx="3600720" cy="504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3706920" y="692280"/>
            <a:ext cx="5329080" cy="53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Жанровое обозначение «Книги про бойца», на котором я остановился, не было результатом стремления просто избежать обозначения «поэма», «повесть». Это совпало с решением писать не поэму, не повесть, а книгу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А.Т. Твардовск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3522600" cy="583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395280" y="115920"/>
            <a:ext cx="813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Дополните таблицу.                                      Назовите  жанр произвед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79280" y="1125360"/>
          <a:ext cx="8785440" cy="4206960"/>
        </p:xfrm>
        <a:graphic>
          <a:graphicData uri="http://schemas.openxmlformats.org/drawingml/2006/table">
            <a:tbl>
              <a:tblPr/>
              <a:tblGrid>
                <a:gridCol w="3154320"/>
                <a:gridCol w="5631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66ff33"/>
                          </a:solidFill>
                          <a:latin typeface="Tahoma"/>
                        </a:rPr>
                        <a:t>Жанр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66ff33"/>
                          </a:solidFill>
                          <a:latin typeface="Tahoma"/>
                        </a:rPr>
                        <a:t>Определение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Небольшое произведение, чаще всего в стиха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Жанр, по характеру развития действия сложнее рассказа, но менее развёрнутый, чем рома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Один из жанров, для которого характерны сюжетность, выражение автором или героем своих чувств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Rectangle 82"/>
          <p:cNvSpPr/>
          <p:nvPr/>
        </p:nvSpPr>
        <p:spPr>
          <a:xfrm>
            <a:off x="2523240" y="6021360"/>
            <a:ext cx="301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тихотворе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Rectangle 84"/>
          <p:cNvSpPr/>
          <p:nvPr/>
        </p:nvSpPr>
        <p:spPr>
          <a:xfrm>
            <a:off x="324000" y="522936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оэ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Rectangle 86"/>
          <p:cNvSpPr/>
          <p:nvPr/>
        </p:nvSpPr>
        <p:spPr>
          <a:xfrm>
            <a:off x="464400" y="5805360"/>
            <a:ext cx="161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рассказ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Rectangle 87"/>
          <p:cNvSpPr/>
          <p:nvPr/>
        </p:nvSpPr>
        <p:spPr>
          <a:xfrm>
            <a:off x="1822680" y="5300640"/>
            <a:ext cx="16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ове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Rectangle 88"/>
          <p:cNvSpPr/>
          <p:nvPr/>
        </p:nvSpPr>
        <p:spPr>
          <a:xfrm>
            <a:off x="6432120" y="5734080"/>
            <a:ext cx="163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были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Rectangle 89"/>
          <p:cNvSpPr/>
          <p:nvPr/>
        </p:nvSpPr>
        <p:spPr>
          <a:xfrm>
            <a:off x="5585400" y="6338880"/>
            <a:ext cx="124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басн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Rectangle 90"/>
          <p:cNvSpPr/>
          <p:nvPr/>
        </p:nvSpPr>
        <p:spPr>
          <a:xfrm>
            <a:off x="3626640" y="540216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каз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Rectangle 91"/>
          <p:cNvSpPr/>
          <p:nvPr/>
        </p:nvSpPr>
        <p:spPr>
          <a:xfrm>
            <a:off x="5280480" y="5589720"/>
            <a:ext cx="102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миф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7.40741E-007 L -0.25573 -0.57315 E">
                                      <p:cBhvr>
                                        <p:cTn id="100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1.85185E-006 L -0.0974 -0.32107 E">
                                      <p:cBhvr>
                                        <p:cTn id="104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48148E-006 L 0.08263 -0.14282 E">
                                      <p:cBhvr>
                                        <p:cTn id="108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7" descr=""/>
          <p:cNvPicPr/>
          <p:nvPr/>
        </p:nvPicPr>
        <p:blipFill>
          <a:blip r:embed="rId1"/>
          <a:stretch/>
        </p:blipFill>
        <p:spPr>
          <a:xfrm>
            <a:off x="5724360" y="260280"/>
            <a:ext cx="3164040" cy="367344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5"/>
          <p:cNvSpPr/>
          <p:nvPr/>
        </p:nvSpPr>
        <p:spPr>
          <a:xfrm>
            <a:off x="0" y="-541080"/>
            <a:ext cx="8137440" cy="80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 какому роду следует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тнести отрывк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боснуйте своё мн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ahoma"/>
              </a:rPr>
              <a:t>Я покинул дом когда – то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ahoma"/>
              </a:rPr>
              <a:t>Позвала дорога вдал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ahoma"/>
              </a:rPr>
              <a:t>На мала была утрат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ahoma"/>
              </a:rPr>
              <a:t>Но светла была печал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ahoma"/>
              </a:rPr>
              <a:t>И годами с грустью нежной –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ahoma"/>
              </a:rPr>
              <a:t>Меж иных любых тревог –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ahoma"/>
              </a:rPr>
              <a:t>Угол отчий, мир мой прежн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ahoma"/>
              </a:rPr>
              <a:t>Я в душе моей берё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i="1" lang="ru-RU" sz="2000" spc="-1" strike="noStrike">
                <a:solidFill>
                  <a:srgbClr val="ffff00"/>
                </a:solidFill>
                <a:latin typeface="Tahoma"/>
              </a:rPr>
              <a:t>За далёкие пригор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i="1" lang="ru-RU" sz="2000" spc="-1" strike="noStrike">
                <a:solidFill>
                  <a:srgbClr val="ffff00"/>
                </a:solidFill>
                <a:latin typeface="Tahoma"/>
              </a:rPr>
              <a:t>Уходил сраженья жа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i="1" lang="ru-RU" sz="2000" spc="-1" strike="noStrike">
                <a:solidFill>
                  <a:srgbClr val="ffff00"/>
                </a:solidFill>
                <a:latin typeface="Tahoma"/>
              </a:rPr>
              <a:t>На снегу Василий Тёрки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i="1" lang="ru-RU" sz="2000" spc="-1" strike="noStrike">
                <a:solidFill>
                  <a:srgbClr val="ffff00"/>
                </a:solidFill>
                <a:latin typeface="Tahoma"/>
              </a:rPr>
              <a:t>Неподобранный лежа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i="1" lang="ru-RU" sz="2000" spc="-1" strike="noStrike">
                <a:solidFill>
                  <a:srgbClr val="ffff00"/>
                </a:solidFill>
                <a:latin typeface="Tahoma"/>
              </a:rPr>
              <a:t>Снег под ним, набрякши кровью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i="1" lang="ru-RU" sz="2000" spc="-1" strike="noStrike">
                <a:solidFill>
                  <a:srgbClr val="ffff00"/>
                </a:solidFill>
                <a:latin typeface="Tahoma"/>
              </a:rPr>
              <a:t>Взялся грудой ледяно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i="1" lang="ru-RU" sz="2000" spc="-1" strike="noStrike">
                <a:solidFill>
                  <a:srgbClr val="ffff00"/>
                </a:solidFill>
                <a:latin typeface="Tahoma"/>
              </a:rPr>
              <a:t>Смерть склонилась к изголовью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i="1" lang="ru-RU" sz="2000" spc="-1" strike="noStrike">
                <a:solidFill>
                  <a:srgbClr val="ffff00"/>
                </a:solidFill>
                <a:latin typeface="Tahoma"/>
              </a:rPr>
              <a:t>- Ну, солдат, пойдём со мно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395280" y="115920"/>
            <a:ext cx="8137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Tahoma"/>
              </a:rPr>
              <a:t>Дополните таблицу.                                      Определите  род произведения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0920" y="1341360"/>
          <a:ext cx="8793000" cy="5364360"/>
        </p:xfrm>
        <a:graphic>
          <a:graphicData uri="http://schemas.openxmlformats.org/drawingml/2006/table">
            <a:tbl>
              <a:tblPr/>
              <a:tblGrid>
                <a:gridCol w="2421000"/>
                <a:gridCol w="4060800"/>
                <a:gridCol w="23112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ff33"/>
                          </a:solidFill>
                          <a:latin typeface="Tahoma"/>
                        </a:rPr>
                        <a:t>Жанр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ff33"/>
                          </a:solidFill>
                          <a:latin typeface="Tahoma"/>
                        </a:rPr>
                        <a:t>Определени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ff33"/>
                          </a:solidFill>
                          <a:latin typeface="Tahoma"/>
                        </a:rPr>
                        <a:t>Род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тихотворе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Небольшое произведение, чаще всего в стиха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ве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Жанр, по характеру развития действия сложнее рассказа, но менее развёрнутый, чем рома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эм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Один из жанров, для которого характерны сюжетность, выражение автором или героем своих чувств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32"/>
          <p:cNvSpPr/>
          <p:nvPr/>
        </p:nvSpPr>
        <p:spPr>
          <a:xfrm>
            <a:off x="6758640" y="2133720"/>
            <a:ext cx="217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лирическ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33"/>
          <p:cNvSpPr/>
          <p:nvPr/>
        </p:nvSpPr>
        <p:spPr>
          <a:xfrm>
            <a:off x="6843600" y="3429000"/>
            <a:ext cx="19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эпическ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 Box 34"/>
          <p:cNvSpPr/>
          <p:nvPr/>
        </p:nvSpPr>
        <p:spPr>
          <a:xfrm>
            <a:off x="6914880" y="5013360"/>
            <a:ext cx="191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лиро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эпическ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7" descr=""/>
          <p:cNvPicPr/>
          <p:nvPr/>
        </p:nvPicPr>
        <p:blipFill>
          <a:blip r:embed="rId1">
            <a:lum contrast="-2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50920" y="980640"/>
            <a:ext cx="8229600" cy="29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Кому смерть, кому жизнь, кому слава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На рассвете началась перепра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Берег тот был, как печка, круто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И угрюмый, зубчат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Лес чернел высоко над водой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Лес чужой, непочаты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2916360" y="4125960"/>
            <a:ext cx="594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ереправа, переправ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Берег левый, берег правы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нег шершавый, кромка льда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Кому память, кому слава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Кому тёмная вода,-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Ни приметы, ни след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WordArt 5"/>
          <p:cNvSpPr txBox="1"/>
          <p:nvPr/>
        </p:nvSpPr>
        <p:spPr>
          <a:xfrm>
            <a:off x="1620720" y="44280"/>
            <a:ext cx="590400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равните два отрывка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4"/>
          <p:cNvSpPr/>
          <p:nvPr/>
        </p:nvSpPr>
        <p:spPr>
          <a:xfrm>
            <a:off x="468360" y="1548000"/>
            <a:ext cx="8207280" cy="34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buClr>
                <a:srgbClr val="ffffff"/>
              </a:buClr>
              <a:buFont typeface="Tahoma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В каком отрывке предложения более короткие?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buClr>
                <a:srgbClr val="ffffff"/>
              </a:buClr>
              <a:buFont typeface="Tahoma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- Чего достигает автор краткими, «рублеными» фразами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WordArt 5"/>
          <p:cNvSpPr txBox="1"/>
          <p:nvPr/>
        </p:nvSpPr>
        <p:spPr>
          <a:xfrm>
            <a:off x="1692360" y="260280"/>
            <a:ext cx="5832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просы для анализа: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3"/>
          <p:cNvSpPr txBox="1"/>
          <p:nvPr/>
        </p:nvSpPr>
        <p:spPr>
          <a:xfrm>
            <a:off x="1692360" y="260280"/>
            <a:ext cx="5832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просы для анализа: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- Какая часть речи отсутствует во втором отрывке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- Что обозначает глагол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- Чего достигает автор, убрав глаголы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- Сравните количество имён прилагательных в1 и во 2 отрывках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- Почему поэт убрал «лишние» имена прилагательны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- Какая часть речи преобладает во 2 отрывк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- Чего достигает поэт, опираясь только на имена существительны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WordArt 5"/>
          <p:cNvSpPr txBox="1"/>
          <p:nvPr/>
        </p:nvSpPr>
        <p:spPr>
          <a:xfrm>
            <a:off x="1692360" y="115920"/>
            <a:ext cx="5832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просы для анализа: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5"/>
          <p:cNvSpPr txBox="1"/>
          <p:nvPr/>
        </p:nvSpPr>
        <p:spPr>
          <a:xfrm>
            <a:off x="755640" y="333360"/>
            <a:ext cx="7416720" cy="39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Художественный мир </a:t>
            </a:r>
            <a:endParaRPr b="0" lang="en-US" sz="3600" spc="1" strike="noStrike">
              <a:ln w="9360">
                <a:solidFill>
                  <a:srgbClr val="ff66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Книги про бойца"</a:t>
            </a:r>
            <a:endParaRPr b="0" lang="en-US" sz="3600" spc="1" strike="noStrike">
              <a:ln w="9360">
                <a:solidFill>
                  <a:srgbClr val="ff66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Василий Тёркин" </a:t>
            </a:r>
            <a:endParaRPr b="0" lang="en-US" sz="3600" spc="1" strike="noStrike">
              <a:ln w="9360">
                <a:solidFill>
                  <a:srgbClr val="ff66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WordArt 7"/>
          <p:cNvSpPr txBox="1"/>
          <p:nvPr/>
        </p:nvSpPr>
        <p:spPr>
          <a:xfrm>
            <a:off x="3419640" y="4869000"/>
            <a:ext cx="5278320" cy="125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.Т. Твардовский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- В каком из отрывков автор широко использует художественные средства? Назовите их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- Почему во 2-м отрывке он «ушёл» от них, оставив только один эпитет?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WordArt 5"/>
          <p:cNvSpPr txBox="1"/>
          <p:nvPr/>
        </p:nvSpPr>
        <p:spPr>
          <a:xfrm>
            <a:off x="1692360" y="260280"/>
            <a:ext cx="5832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просы для анализа: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908000" y="3357360"/>
            <a:ext cx="5400720" cy="172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1945 год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ночь с 9 на 10 ма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WordArt 4"/>
          <p:cNvSpPr txBox="1"/>
          <p:nvPr/>
        </p:nvSpPr>
        <p:spPr>
          <a:xfrm>
            <a:off x="826920" y="476280"/>
            <a:ext cx="763272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вершение работы над </a:t>
            </a:r>
            <a:endParaRPr b="0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 Василием Теркиным"</a:t>
            </a:r>
            <a:endParaRPr b="0" lang="en-US" sz="2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5"/>
          <p:cNvSpPr/>
          <p:nvPr/>
        </p:nvSpPr>
        <p:spPr>
          <a:xfrm>
            <a:off x="3276720" y="1700280"/>
            <a:ext cx="6011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Я мечтал о сущем чуде:  Чтоб от выдумки моей        На войне живущим людям Было, может быть, теплей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466560" y="4797360"/>
            <a:ext cx="820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на дала мне ощущение законности места художника в великой борьбе народа, ощущение очевидной полезности моего труд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WordArt 7"/>
          <p:cNvSpPr txBox="1"/>
          <p:nvPr/>
        </p:nvSpPr>
        <p:spPr>
          <a:xfrm>
            <a:off x="3851280" y="333360"/>
            <a:ext cx="41752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.Т.Твардовский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0" name="Picture 8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2706840" cy="4390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"/>
          <p:cNvPicPr/>
          <p:nvPr/>
        </p:nvPicPr>
        <p:blipFill>
          <a:blip r:embed="rId1"/>
          <a:srcRect l="1723" t="0" r="339" b="722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2" name="21 - Запись 21.mp3" descr=""/>
          <p:cNvPicPr/>
          <p:nvPr/>
        </p:nvPicPr>
        <p:blipFill>
          <a:blip r:embed="rId2"/>
          <a:stretch/>
        </p:blipFill>
        <p:spPr>
          <a:xfrm>
            <a:off x="8388360" y="3716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174955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…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работа завладела им, и он испытывал приближение того, что называется вдохновением. …речь сама, силой своих законов создаёт размер и рифму, и тысячи других … образований ещё более важных, но до сих пор неузнанных, неучтённых, неназванных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                                 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Б.Л. Пастернак</a:t>
            </a:r>
            <a:r>
              <a:rPr b="0" lang="ru-RU" sz="36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5"/>
          <p:cNvSpPr txBox="1"/>
          <p:nvPr/>
        </p:nvSpPr>
        <p:spPr>
          <a:xfrm>
            <a:off x="2124000" y="476280"/>
            <a:ext cx="49341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эма "Василий Тёркин"</a:t>
            </a:r>
            <a:endParaRPr b="0" lang="en-US" sz="3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395280" y="4508640"/>
            <a:ext cx="8342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была для него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«лирикой», «песней»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«разговором по душам»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2340000" y="1484280"/>
            <a:ext cx="487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о жизни и смерт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153360" y="2421000"/>
            <a:ext cx="874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рассказывает, рисует, вдохновляе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446040" y="3500280"/>
            <a:ext cx="827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главное творение поэта на войн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Удалось ли нам найти ответ на поставленный в начале урока вопрос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Как вы оцениваете свою работу на уроке, работу своей группы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Была ли работа на уроке для вас интересной, полезной? В чём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пишите эссе «Читая  сегодня «Василия Тёркина», я думал (понимал, видел, представлял…)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4"/>
          <p:cNvSpPr txBox="1"/>
          <p:nvPr/>
        </p:nvSpPr>
        <p:spPr>
          <a:xfrm>
            <a:off x="1042920" y="1268280"/>
            <a:ext cx="7344000" cy="244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работу !</a:t>
            </a:r>
            <a:endParaRPr b="0" lang="en-US" sz="3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…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работа завладела им, и он испытывал приближение того, что называется вдохновением. …речь сама, силой своих законов создаёт размер и рифму, и тысячи других … образований ещё более важных, но до сих пор неузнанных, неучтённых, неназванных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                                 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Б.Л. Пастернак</a:t>
            </a:r>
            <a:r>
              <a:rPr b="0" lang="ru-RU" sz="36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00"/>
                </a:solidFill>
                <a:uFillTx/>
                <a:latin typeface="Tahoma"/>
              </a:rPr>
              <a:t>Знать: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определения понятий «жанр», «род», «композиция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00"/>
                </a:solidFill>
                <a:uFillTx/>
                <a:latin typeface="Tahoma"/>
              </a:rPr>
              <a:t>Уметь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определять жанр, род, композицию, особенности языка, стиля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анализировать языковые средст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находить в тексте примеры разных родов литератур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WordArt 4"/>
          <p:cNvSpPr txBox="1"/>
          <p:nvPr/>
        </p:nvSpPr>
        <p:spPr>
          <a:xfrm>
            <a:off x="2411280" y="260280"/>
            <a:ext cx="43214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Цели урока: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6"/>
          <p:cNvSpPr/>
          <p:nvPr/>
        </p:nvSpPr>
        <p:spPr>
          <a:xfrm>
            <a:off x="3924360" y="1125360"/>
            <a:ext cx="521964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Ни одна из моих работ не давалась мне так трудно поначалу и не шла так легко потом, как «Василий Тёркин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А. Т. Твардовск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826920" y="404640"/>
            <a:ext cx="712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9" descr=""/>
          <p:cNvPicPr/>
          <p:nvPr/>
        </p:nvPicPr>
        <p:blipFill>
          <a:blip r:embed="rId1"/>
          <a:srcRect l="1965" t="1404" r="816" b="1382"/>
          <a:stretch/>
        </p:blipFill>
        <p:spPr>
          <a:xfrm>
            <a:off x="179280" y="765000"/>
            <a:ext cx="3600720" cy="504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О чём писал Твардовский до войны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Как изменилась тематика его произведений во время ВОВ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00"/>
                </a:solidFill>
                <a:latin typeface="Tahoma"/>
              </a:rPr>
              <a:t>«Я – любитель жизни мирной –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00"/>
                </a:solidFill>
                <a:latin typeface="Tahoma"/>
              </a:rPr>
              <a:t>На войне пою войну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WordArt 4"/>
          <p:cNvSpPr txBox="1"/>
          <p:nvPr/>
        </p:nvSpPr>
        <p:spPr>
          <a:xfrm>
            <a:off x="1619280" y="189000"/>
            <a:ext cx="5905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дание для 1-й группы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рокомментируйте высказывани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А.Т. Твардовского об особенностях композиции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ahoma"/>
              </a:rPr>
              <a:t>Словом, книга про бойц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ahoma"/>
              </a:rPr>
              <a:t>Без начала, без конц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ahoma"/>
              </a:rPr>
              <a:t>Почему так – без начал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ahoma"/>
              </a:rPr>
              <a:t>Потому что сроку мал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ahoma"/>
              </a:rPr>
              <a:t>Начинать её сначал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ahoma"/>
              </a:rPr>
              <a:t>Почему же без конц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ahoma"/>
              </a:rPr>
              <a:t>Просто жалко молодц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WordArt 6"/>
          <p:cNvSpPr txBox="1"/>
          <p:nvPr/>
        </p:nvSpPr>
        <p:spPr>
          <a:xfrm>
            <a:off x="1403280" y="333360"/>
            <a:ext cx="6121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дание для 2-й группы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 чем связан выбор такой композиции «Книги про бойца»? Дополните смысл недостающих строк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«</a:t>
            </a:r>
            <a:r>
              <a:rPr b="0" i="1" lang="ru-RU" sz="2800" spc="-1" strike="noStrike">
                <a:solidFill>
                  <a:srgbClr val="ffff00"/>
                </a:solidFill>
                <a:latin typeface="Tahoma"/>
              </a:rPr>
              <a:t>И первое, что я принял за принцип композиции и стиля, - это стремление к известной завершённости каждой отдельной части, главы. Я должен был иметь в виду читателя, который………. Кроме того, он мог и не……..: он был там, где и герой – на войне. Этой примерной завершённостью каждой главы я и был более всего озабочен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WordArt 5"/>
          <p:cNvSpPr txBox="1"/>
          <p:nvPr/>
        </p:nvSpPr>
        <p:spPr>
          <a:xfrm>
            <a:off x="1403280" y="333360"/>
            <a:ext cx="6121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дание для 3-й группы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азовите элементы сюжет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ак развивается сюжет в «Книге про бойца», (например, в главе «Переправа»)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ahoma"/>
              </a:rPr>
              <a:t>Без особого сюжета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ahoma"/>
              </a:rPr>
              <a:t>Впрочем, правде не во вре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ahoma"/>
              </a:rPr>
              <a:t>На войне сюжета нет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ahoma"/>
              </a:rPr>
              <a:t>- Как так нету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ahoma"/>
              </a:rPr>
              <a:t>- Так вот, не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WordArt 5"/>
          <p:cNvSpPr txBox="1"/>
          <p:nvPr/>
        </p:nvSpPr>
        <p:spPr>
          <a:xfrm>
            <a:off x="1403280" y="333360"/>
            <a:ext cx="6121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дание для 4-й группы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2T07:27:22Z</dcterms:created>
  <dc:creator>User</dc:creator>
  <dc:description/>
  <dc:language>en-US</dc:language>
  <cp:lastModifiedBy>Admin</cp:lastModifiedBy>
  <dcterms:modified xsi:type="dcterms:W3CDTF">2011-02-03T19:16:23Z</dcterms:modified>
  <cp:revision>24</cp:revision>
  <dc:subject/>
  <dc:title>Слайд 1</dc:title>
</cp:coreProperties>
</file>