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B41-4CAC-48AB-B6CC-824F3C34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3D3D-5871-4F27-9A6F-053BCF9A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1158-E17C-4269-8CF4-2C15C39A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5269-3203-44D9-97A6-1B9ADFA2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134A4-D118-4E64-BE19-B97A61EE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3841C-5213-45C6-9166-95DEA1E7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4FC82-1FB8-451F-962A-50E18B5F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645EC-528F-4CF7-8A08-5FF24A5A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66B9B-D602-4D66-ABDC-3D04426A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B60C9-7578-43B8-91BC-D5BD07D9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41180-58A1-467D-B23A-074104A2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7398-426D-46D3-B381-DB779D7A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ADAC2-2F95-4D08-920B-08BEB2D7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6826D-630E-421A-A85B-EFC68259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26825-AE1B-4443-AA6F-16A7C364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42A28-D5E7-42C0-A8CF-36123DAF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48570-89DE-4715-A087-C3EE154D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C55-27D4-4278-950E-2BCA84E5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C30B-9B4D-42AE-BAA4-718FDA3F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9ACF-FF49-408A-929C-13FCB8DF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AA91-3FD0-4C54-AE2F-A99A53C3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2B56-B0F8-4ECF-B37D-78947C31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10C2-0AD3-445D-BF0E-A7B22688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BC2-81D1-4F2F-A294-53F2956D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3A22-9F18-4BE8-B6D3-B436E69A52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F66E-DACD-4EF4-8241-CB6D9A231C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uess what letter I’m wri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DOCODI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ABBI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NGLIS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bel - the - picture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817720" y="1600200"/>
            <a:ext cx="952560" cy="2003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095880" y="1828800"/>
            <a:ext cx="1143000" cy="1712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057400" y="4022640"/>
            <a:ext cx="2217600" cy="1971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6058080" y="3990960"/>
            <a:ext cx="1217520" cy="20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I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IS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CKER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ONKE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LEPHA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AB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Aa Bb Cc Dd Ee Ff G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Arial"/>
              </a:rPr>
              <a:t>Hh Ii Jj Kk Ll Mm Nn Oo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Pp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Qq Rr Ss Tt Uu Vv Ww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Arial"/>
              </a:rPr>
              <a:t>Xx Yy Zz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вторить изученные буквы и звук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ood-bye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uess what letter I’m wri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609624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uess what letter I’m wri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uess what letter I’m wri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ett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r Grann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… a p…t. it is a small c…t. I lik… it v…ry much. My ca… is blac….           Your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.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487840" y="2230560"/>
            <a:ext cx="2360880" cy="32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a pEt. It is a small cAt. I likE it vEry much. My caT is bla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ke-a-word ga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"/>
              </a:rPr>
              <a:t>   </a:t>
            </a:r>
            <a:r>
              <a:rPr b="0" lang="en-US" sz="2800" spc="-1" strike="noStrike">
                <a:solidFill>
                  <a:srgbClr val="0033cc"/>
                </a:solidFill>
                <a:latin typeface="comic"/>
              </a:rPr>
              <a:t>Who knows the alphabet bette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48320" y="1523880"/>
          <a:ext cx="4038480" cy="4525920"/>
        </p:xfrm>
        <a:graphic>
          <a:graphicData uri="http://schemas.openxmlformats.org/drawingml/2006/table">
            <a:tbl>
              <a:tblPr/>
              <a:tblGrid>
                <a:gridCol w="807840"/>
                <a:gridCol w="808200"/>
                <a:gridCol w="806400"/>
                <a:gridCol w="807840"/>
                <a:gridCol w="8082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MOTHE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code –the – word ga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Arial"/>
              </a:rPr>
              <a:t>I O D C O R L E C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R B A B T I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N L E G S I H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aples</cp:lastModifiedBy>
  <dcterms:modified xsi:type="dcterms:W3CDTF">2007-12-23T20:50:25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