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37D-D574-4BA8-ABA8-E41F856C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BDF-125C-42A3-8D6F-EA58981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4AE-62B6-46BD-B8B1-DB672401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FDF-1123-488D-923A-D190F34D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86E3-DD91-4CA7-A15D-BBBA0FEA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348-3870-47B8-84AC-9D37D41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4991-F89C-41D2-B475-7289D75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616-70DD-4A9C-A863-49234F4C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14F-857B-4B28-B34A-5C7C9A27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3C71-BE6F-460F-87D5-E15D0ED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28CC-73E6-4801-AD81-4A1E450B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93A-845C-4AD0-B957-D941D8A4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06C5-50F7-4C03-99C8-B636D9D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592D-1924-4E62-9802-BD81C74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E54-500A-41B4-8428-7B37481A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2C22-8312-4C72-8F11-384C7558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046-602A-4F18-BAF1-D2DF0C28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4A5-5E36-4077-B93A-557011D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387-CA16-4F16-9E10-0A1E883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71B-A659-47F8-B80E-0512ECF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706-23B9-454A-9A0A-AA267A5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FC6-0F72-47BF-AFB5-FA99F9B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81A-4266-45BF-BA49-1A3F860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4D5-D265-4BE6-9406-1EEE16C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3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34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35.wmf"/><Relationship Id="rId12" Type="http://schemas.openxmlformats.org/officeDocument/2006/relationships/package" Target="../embeddings/oleObject6.docx"/><Relationship Id="rId13" Type="http://schemas.openxmlformats.org/officeDocument/2006/relationships/image" Target="../media/image36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37.wmf"/><Relationship Id="rId16" Type="http://schemas.openxmlformats.org/officeDocument/2006/relationships/package" Target="../embeddings/oleObject8.docx"/><Relationship Id="rId17" Type="http://schemas.openxmlformats.org/officeDocument/2006/relationships/image" Target="../media/image38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Право ребёнка на защиту чести и достоинства. Проблемы его реализаци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репко В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 “А” класс СШ №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95520" y="1833480"/>
          <a:ext cx="623880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833480"/>
                    <a:ext cx="62388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62120" y="2357280"/>
          <a:ext cx="7667640" cy="31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57280"/>
                    <a:ext cx="766764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95520" y="1905120"/>
          <a:ext cx="652464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905120"/>
                    <a:ext cx="6524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133720" y="2057400"/>
          <a:ext cx="3560760" cy="54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57400"/>
                    <a:ext cx="35607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95520" y="2595600"/>
          <a:ext cx="5476680" cy="369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595600"/>
                    <a:ext cx="54766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595520" y="3048120"/>
          <a:ext cx="3417840" cy="369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5520" y="3048120"/>
                    <a:ext cx="34178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95520" y="3500280"/>
          <a:ext cx="5476680" cy="3700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5520" y="3500280"/>
                    <a:ext cx="5476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95520" y="3965400"/>
          <a:ext cx="5476680" cy="368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5520" y="3965400"/>
                    <a:ext cx="547668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00200" y="4419720"/>
          <a:ext cx="5477040" cy="7506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4419720"/>
                    <a:ext cx="54770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95520" y="5253120"/>
          <a:ext cx="5451480" cy="7538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95520" y="5253120"/>
                    <a:ext cx="545148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76520" y="1905120"/>
          <a:ext cx="647676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4767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833480" y="5214960"/>
          <a:ext cx="6120000" cy="144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214960"/>
                    <a:ext cx="61200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057400" y="1371600"/>
          <a:ext cx="527544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371600"/>
                    <a:ext cx="52754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95520" y="1833480"/>
          <a:ext cx="5262480" cy="690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5520" y="1833480"/>
                    <a:ext cx="5262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595520" y="2513160"/>
          <a:ext cx="5262480" cy="690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5520" y="2513160"/>
                    <a:ext cx="5262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95520" y="3203640"/>
          <a:ext cx="5262480" cy="1047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5520" y="3203640"/>
                    <a:ext cx="52624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00200" y="4267080"/>
          <a:ext cx="5275440" cy="700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4267080"/>
                    <a:ext cx="5275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762120"/>
          <a:ext cx="859608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96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80880" y="1976400"/>
          <a:ext cx="8371080" cy="2846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76400"/>
                    <a:ext cx="8371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80880" y="5024520"/>
          <a:ext cx="8406000" cy="1560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024520"/>
                    <a:ext cx="840600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762120" y="762120"/>
          <a:ext cx="8059680" cy="9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8059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80880" y="2133720"/>
          <a:ext cx="8458200" cy="4190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337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595520" y="1833480"/>
          <a:ext cx="594828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833480"/>
                    <a:ext cx="59482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2945" t="2967" r="2945" b="2967"/>
          <a:stretch/>
        </p:blipFill>
        <p:spPr>
          <a:xfrm>
            <a:off x="3352680" y="2590920"/>
            <a:ext cx="2438640" cy="20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6477120" y="1595520"/>
          <a:ext cx="1976400" cy="59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1595520"/>
                    <a:ext cx="1976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5791320" y="2133720"/>
            <a:ext cx="6094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9600" y="3119400"/>
          <a:ext cx="2751120" cy="976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9600" y="3119400"/>
                    <a:ext cx="27511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V="1">
            <a:off x="4648320" y="1523880"/>
            <a:ext cx="0" cy="10670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8120" y="990720"/>
          <a:ext cx="3405240" cy="511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990720"/>
                    <a:ext cx="34052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2895480" y="350532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5092560"/>
          <a:ext cx="2725560" cy="12718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092560"/>
                    <a:ext cx="272556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>
            <a:off x="2514600" y="4648320"/>
            <a:ext cx="83808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523880"/>
          <a:ext cx="2606760" cy="92880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880" y="1523880"/>
                    <a:ext cx="26067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943600" y="2895480"/>
          <a:ext cx="2846520" cy="144000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43600" y="2895480"/>
                    <a:ext cx="28465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048120" y="236196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548400" y="5108400"/>
          <a:ext cx="1631880" cy="13100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48400" y="5108400"/>
                    <a:ext cx="1631880" cy="13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791320" y="4648320"/>
            <a:ext cx="83808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38600" y="5262480"/>
          <a:ext cx="1905120" cy="870120"/>
        </p:xfrm>
        <a:graphic>
          <a:graphicData uri="http://schemas.openxmlformats.org/presentationml/2006/ole">
            <p:oleObj progId="Word.Document.12" r:id="rId1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38600" y="5262480"/>
                    <a:ext cx="19051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48320" y="464832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вство собственного достоинства –                                                                                                              Вот загадочный инструмент.                                                                                Созидается он столетиями,                                                                                                 А утрачивается в момент,                                                                                               Под бомбёжку ли, под гармошку ли,                                                                           Под красивую болтовню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br>
              <a:rPr sz="44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сушается, разрушаетс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крушается на корню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762120" y="762120"/>
          <a:ext cx="7953120" cy="88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531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0880" y="1981080"/>
          <a:ext cx="8458200" cy="456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81080"/>
                    <a:ext cx="845820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143000" y="1828800"/>
          <a:ext cx="6703920" cy="161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7039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743200" y="4114800"/>
          <a:ext cx="4013280" cy="69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114800"/>
                    <a:ext cx="40132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  Ты видишь, что твоего друга бьет старший мальчик. Как ты поступишь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овешь кого-то на помощь другу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 начнешь драться с обидчико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обратишь внимания и уйдешь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делаешь что-то друго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  Твои родители часто бьют тебя. Ты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скажешь об этом другу или кому-то другому, кому доверяешь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иришься с этим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нешь «давать сдачи»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делаешь что-то другое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  Твои родители постоянно заняты, поэтому ты никак не можешь найти подходящее время поговорить с ними о своих проблемах. Ты 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берешь момент, когда родители менее всего заняты, и обратишься к ним с просьбой выслушать тебя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судишь свои проблемы с другом или кем-то, кому доверяешь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танешь ни с кем обсуждать, а будешь ждать, пока все решится само собой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делаешь что-то друго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  Ты знаешь, что твоего друга постоянно унижают и ругают дома. Ты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кажешь об этом взрослому, которому доверяешь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станешь говорить об этом никому, не желая разглашать секрет друга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делаешь вид, что ничего не знаешь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делаешь что-то друго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  Тебе надо подготовить доклад по истории, но ты не успел все сделать дома и готовишься на уроке физики. Учитель физики отнимает у тебя книгу по истории и говорит, что вернет ее, только когда ты хорошо ответишь по физике. Ты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просишь прощения у учителя физики и пообещаешь все выучить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ребуешь у учителя физики вернуть тебе отнятую книгу, мотивируя это тем, что учитель не имеет права забирать твои вещи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кратишь готовиться к урокам физики и демонстративно не будешь отвечать на вопросы учителя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делаешь что-то друго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833400" y="1976400"/>
          <a:ext cx="77630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976400"/>
                    <a:ext cx="77630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048120" y="4262400"/>
          <a:ext cx="5667120" cy="61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2400"/>
                    <a:ext cx="56671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!     Занятие было интересным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ым, нужным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?   Осталось много вопросов 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умений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 время занятия я бы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востребованным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  Занятие было неинтересным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ы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вство собственного достоинства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т таинственная стез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оторой разбиться запрост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с которой свернуть нельз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ому что без промедления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дохновенный, чистый, живо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творится, в пыль превратит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ческий образ твой.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вство собственного достоинства –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сто портрет любв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 люблю вас, мои товарищ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 и нежность в моей кров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 там тьма и зло ни пророчили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ме этого, ниче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идумало человече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спасения своего!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уджава Б. Ш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й поэт-бард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65000" y="1979640"/>
          <a:ext cx="7105680" cy="139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979640"/>
                    <a:ext cx="71056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584520" y="3584520"/>
          <a:ext cx="4583160" cy="523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3584520"/>
                    <a:ext cx="458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2513160"/>
          <a:ext cx="845820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3160"/>
                    <a:ext cx="845820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2556000" y="836640"/>
            <a:ext cx="575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рь Ожегов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2441520"/>
          <a:ext cx="8382240" cy="30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41520"/>
                    <a:ext cx="838224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2627280" y="907920"/>
            <a:ext cx="575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оварь Ожегов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80880" y="2819520"/>
          <a:ext cx="83584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19520"/>
                    <a:ext cx="8358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843280" y="907920"/>
            <a:ext cx="575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ческий словар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2286000"/>
          <a:ext cx="8358480" cy="33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35848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2843280" y="907920"/>
            <a:ext cx="5757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ческий словар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1:28:43Z</dcterms:created>
  <dc:creator>NEC Computers International</dc:creator>
  <dc:description/>
  <dc:language>en-US</dc:language>
  <cp:lastModifiedBy>comp</cp:lastModifiedBy>
  <dcterms:modified xsi:type="dcterms:W3CDTF">2007-08-24T12:57:17Z</dcterms:modified>
  <cp:revision>16</cp:revision>
  <dc:subject/>
  <dc:title>Право на защиту чести и достоинства</dc:title>
</cp:coreProperties>
</file>